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5E4-7156-4711-B8FC-97C56D56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C5B-A70E-4585-B28B-8F68F054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424-D155-4C03-A6E6-59D6E52A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5A4-9CDB-4279-92F4-58960B4F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DA7-E326-4F39-8CC6-D0A06C06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8A4-28F9-4F45-916A-296760AF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407-2D1E-438A-B95D-A68A9307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53A-FE5D-4F6C-A2FE-BE3DE63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957-DEBF-4F5C-8A39-9BEB21D4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3FB-A21D-41E5-BEEA-61B13BB6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F20-F235-452A-A172-62572F3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C91-1481-42BD-910A-A3B7319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4FA6-BAB4-41C6-846C-485CCEFD9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overstockdrugstore.com/product_images/c/381519012693.jpg&amp;imgrefurl=http://www.overstockdrugstore.com/products/Aussie-Dual-Personality-Hi-Hold-%2B-Hi-Shine-Hair-Spray,-Maximum-Hold,-10-oz.html&amp;usg=__KcnufDIAycpqYUS2_jbBdIuXHhw=&amp;h=500&amp;w=500&amp;sz=20&amp;hl=en&amp;start=1&amp;zoom=1&amp;itbs=1&amp;tbnid=ifC-djca-M35UM:&amp;tbnh=130&amp;tbnw=130&amp;prev=/images%3Fq%3Daussie%2Bhairspray%26hl%3Den%26safe%3Dactive%26gbv%3D2%26tbs%3Disch:1&amp;ei=1FBATem7Ls6s8Ab8sI3mAw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ecx.images-amazon.com/images/I/21KPrxHQgwL._SL500_AA300_.jpg&amp;imgrefurl=http://www.amazon.com/White-Rain-Hair-Spray-Firm/dp/B0012E0RRY&amp;usg=__Cr-4uHpknCXfQ_kvIXtOsYYhVdA=&amp;h=300&amp;w=300&amp;sz=9&amp;hl=en&amp;start=8&amp;zoom=1&amp;itbs=1&amp;tbnid=lKJ59dXvN9MOaM:&amp;tbnh=116&amp;tbnw=116&amp;prev=/images%3Fq%3Dwhite%2Brain%2Bhairspray%26hl%3Den%26safe%3Dactive%26gbv%3D2%26tbs%3Disch:1&amp;ei=MFFATajAN4L48AamzrnTAw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ir-spray works the best for curl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Daltyn Flick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12304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isis was right. Aussie worked much better than White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your gong out and want your hair to look nice. Do you want your hair to fall flat? I sure wouldn’t. Using the right hair-spray could determine if you look good or n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cause of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fferent curling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ing the same amount of hair-s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ing the same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ook about an hour and a half each time. Over all I took just about 10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sie worked much better than the White rain. The White Rain just made the hair clump up. The Aussie just made it hold longer. That is what I expected though. Aussie has a better hold and makes it look better also.My lovel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yn Gilles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yn Flick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right, the Aussie worked better. That is what my prediction w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so much to my lovely ladies! You were amazing! All 3 of you. I couldn’t have asked for a better group of ladies. Thank you all so much!!!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esting if the leading hair-spray brands work better than the off brand. My hypothesis is that the Aussie work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 of hair-spray works the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inds ar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Rai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362320"/>
            <a:ext cx="1466640" cy="146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9625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yn &amp; Brit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ling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sie hair-s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rain hair-s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Riffel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isis is that the Aussie will work much better than the White Rain. White Rain isn’t a very good brand of hair-s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 sprayed all th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I curled it and sprayed it while I was curl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hen I was done I sprayed it all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67080" y="3886200"/>
            <a:ext cx="3276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ew that the Aussie would most likely hold better than the White Rain. I have used Aussie before and I knew it is very good brand of hair-s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: I used the same iron, the same amount of hair spray, and also the same environm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: I used a different brand of hair-s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Brityn and Taryn for letting me use you in my project. It meant a lot to me. Also thank you Mrs. Riffel for all of the elp and for letting me use your room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0:47Z</dcterms:created>
  <dc:creator>USD376</dc:creator>
  <dc:description/>
  <dc:language>en-US</dc:language>
  <cp:lastModifiedBy>STERLING  USD376</cp:lastModifiedBy>
  <dcterms:modified xsi:type="dcterms:W3CDTF">2011-02-23T17:20:22Z</dcterms:modified>
  <cp:revision>5</cp:revision>
  <dc:subject/>
  <dc:title>What hair-spray works the best? </dc:title>
</cp:coreProperties>
</file>